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D8C9-4A31-429D-9249-7944EBDD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2F6A-259C-43DF-9474-19B41851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BA60-FCA1-4211-9A52-6A32EE4A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B0BB-0865-442C-AD52-12F5C6B2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BF8D-A5C6-4EDC-ADC4-A68F92EA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68E3-3C79-4A12-99EF-D32D885F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1ACC-E8AB-494B-B8D8-E9F1F555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244D-993F-4A74-956D-4C2128D6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77E-1CFA-4A95-99D0-959C4411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1A9-E78E-45B0-9383-4E27D203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750F-5659-4218-AEA7-04964F24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3DAE-7A04-4F13-85EA-0393F1AE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6A23-FF15-4064-A5F6-4C1B258DA2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небо1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pic>
        <p:nvPicPr>
          <p:cNvPr id="42" name="поле чудес.mp3" descr=""/>
          <p:cNvPicPr/>
          <p:nvPr/>
        </p:nvPicPr>
        <p:blipFill>
          <a:blip r:embed="rId2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1403280" y="1628640"/>
            <a:ext cx="6048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16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ле</a:t>
            </a:r>
            <a:endParaRPr b="1" i="1" lang="en-US" sz="1800" spc="1" strike="noStrike">
              <a:ln w="316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16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удес</a:t>
            </a:r>
            <a:endParaRPr b="1" i="1" lang="en-US" sz="1800" spc="1" strike="noStrike">
              <a:ln w="316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97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2">
            <a:hlinkClick r:id="rId1" action="ppaction://hlinksldjump"/>
          </p:cNvPr>
          <p:cNvSpPr/>
          <p:nvPr/>
        </p:nvSpPr>
        <p:spPr>
          <a:xfrm>
            <a:off x="395280" y="260280"/>
            <a:ext cx="2736720" cy="24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 ТУ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8">
            <a:hlinkClick r:id="rId2" action="ppaction://hlinksldjump"/>
          </p:cNvPr>
          <p:cNvSpPr/>
          <p:nvPr/>
        </p:nvSpPr>
        <p:spPr>
          <a:xfrm>
            <a:off x="2987640" y="1989000"/>
            <a:ext cx="2736720" cy="2449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3 ТУ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9"/>
          <p:cNvSpPr/>
          <p:nvPr/>
        </p:nvSpPr>
        <p:spPr>
          <a:xfrm>
            <a:off x="395280" y="4005360"/>
            <a:ext cx="3024360" cy="251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ФИНА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3995640" y="4292640"/>
            <a:ext cx="4969080" cy="20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СУПЕРИГ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1"/>
          <p:cNvSpPr/>
          <p:nvPr/>
        </p:nvSpPr>
        <p:spPr>
          <a:xfrm>
            <a:off x="5724360" y="404640"/>
            <a:ext cx="2737080" cy="2449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2 ТУ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9144000" cy="7816680"/>
        </p:xfrm>
        <a:graphic>
          <a:graphicData uri="http://schemas.openxmlformats.org/drawingml/2006/table">
            <a:tbl>
              <a:tblPr/>
              <a:tblGrid>
                <a:gridCol w="1017720"/>
                <a:gridCol w="1014120"/>
                <a:gridCol w="1016280"/>
                <a:gridCol w="1017360"/>
                <a:gridCol w="1014480"/>
                <a:gridCol w="1015920"/>
                <a:gridCol w="1017720"/>
                <a:gridCol w="1014480"/>
                <a:gridCol w="1015920"/>
              </a:tblGrid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Ц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Ц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400"/>
          <p:cNvSpPr/>
          <p:nvPr/>
        </p:nvSpPr>
        <p:spPr>
          <a:xfrm>
            <a:off x="3143160" y="250020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02"/>
          <p:cNvSpPr/>
          <p:nvPr/>
        </p:nvSpPr>
        <p:spPr>
          <a:xfrm>
            <a:off x="2143080" y="250020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79"/>
          <p:cNvSpPr txBox="1"/>
          <p:nvPr/>
        </p:nvSpPr>
        <p:spPr>
          <a:xfrm>
            <a:off x="1476360" y="18900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вый тур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AutoShape 477"/>
          <p:cNvSpPr/>
          <p:nvPr/>
        </p:nvSpPr>
        <p:spPr>
          <a:xfrm>
            <a:off x="8423280" y="6066000"/>
            <a:ext cx="720720" cy="792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92000"/>
              <a:gd name="textAreaBottom" fmla="*/ 745560 h 792000"/>
            </a:gdLst>
            <a:ahLst/>
            <a:rect l="textAreaLeft" t="textAreaTop" r="textAreaRight" b="textAreaBottom"/>
            <a:pathLst>
              <a:path w="21600" h="23735">
                <a:moveTo>
                  <a:pt x="0" y="0"/>
                </a:moveTo>
                <a:lnTo>
                  <a:pt x="21600" y="0"/>
                </a:lnTo>
                <a:lnTo>
                  <a:pt x="21600" y="23735"/>
                </a:lnTo>
                <a:lnTo>
                  <a:pt x="0" y="23735"/>
                </a:lnTo>
                <a:close/>
              </a:path>
              <a:path fill="lightenLess" w="21600" h="23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5">
                <a:moveTo>
                  <a:pt x="21600" y="0"/>
                </a:moveTo>
                <a:lnTo>
                  <a:pt x="21600" y="23735"/>
                </a:lnTo>
                <a:lnTo>
                  <a:pt x="20200" y="22335"/>
                </a:lnTo>
                <a:lnTo>
                  <a:pt x="20200" y="1400"/>
                </a:lnTo>
                <a:close/>
              </a:path>
              <a:path fill="darkenLess" w="21600" h="23735">
                <a:moveTo>
                  <a:pt x="21600" y="23735"/>
                </a:moveTo>
                <a:lnTo>
                  <a:pt x="0" y="23735"/>
                </a:lnTo>
                <a:lnTo>
                  <a:pt x="1400" y="22335"/>
                </a:lnTo>
                <a:lnTo>
                  <a:pt x="20200" y="22335"/>
                </a:lnTo>
                <a:close/>
              </a:path>
              <a:path fill="lighten" w="21600" h="23735">
                <a:moveTo>
                  <a:pt x="0" y="23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5"/>
                </a:lnTo>
                <a:close/>
              </a:path>
              <a:path fill="darken" w="21600" h="23735">
                <a:moveTo>
                  <a:pt x="10800" y="4905"/>
                </a:moveTo>
                <a:lnTo>
                  <a:pt x="13376" y="7516"/>
                </a:ln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lnTo>
                  <a:pt x="17763" y="11868"/>
                </a:lnTo>
                <a:lnTo>
                  <a:pt x="16109" y="11868"/>
                </a:lnTo>
                <a:lnTo>
                  <a:pt x="16109" y="19057"/>
                </a:lnTo>
                <a:lnTo>
                  <a:pt x="5491" y="19057"/>
                </a:lnTo>
                <a:lnTo>
                  <a:pt x="5491" y="11868"/>
                </a:lnTo>
                <a:lnTo>
                  <a:pt x="3837" y="11868"/>
                </a:lnTo>
                <a:close/>
              </a:path>
              <a:path fill="darkenLess" w="21600" h="23735">
                <a:moveTo>
                  <a:pt x="13376" y="7516"/>
                </a:move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close/>
              </a:path>
              <a:path fill="darkenLess" w="21600" h="23735">
                <a:moveTo>
                  <a:pt x="9877" y="15366"/>
                </a:moveTo>
                <a:lnTo>
                  <a:pt x="11723" y="15366"/>
                </a:lnTo>
                <a:lnTo>
                  <a:pt x="11723" y="19057"/>
                </a:lnTo>
                <a:lnTo>
                  <a:pt x="16109" y="19057"/>
                </a:lnTo>
                <a:lnTo>
                  <a:pt x="16109" y="11868"/>
                </a:lnTo>
                <a:lnTo>
                  <a:pt x="5491" y="11868"/>
                </a:lnTo>
                <a:lnTo>
                  <a:pt x="5491" y="19057"/>
                </a:lnTo>
                <a:lnTo>
                  <a:pt x="9877" y="1905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оле чудес.mp3" descr=""/>
          <p:cNvPicPr/>
          <p:nvPr/>
        </p:nvPicPr>
        <p:blipFill>
          <a:blip r:embed="rId3"/>
          <a:stretch/>
        </p:blipFill>
        <p:spPr>
          <a:xfrm>
            <a:off x="46836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02"/>
          <p:cNvSpPr/>
          <p:nvPr/>
        </p:nvSpPr>
        <p:spPr>
          <a:xfrm>
            <a:off x="1000080" y="250020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03"/>
          <p:cNvSpPr/>
          <p:nvPr/>
        </p:nvSpPr>
        <p:spPr>
          <a:xfrm>
            <a:off x="6215040" y="250020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03"/>
          <p:cNvSpPr/>
          <p:nvPr/>
        </p:nvSpPr>
        <p:spPr>
          <a:xfrm>
            <a:off x="5214960" y="250020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03"/>
          <p:cNvSpPr/>
          <p:nvPr/>
        </p:nvSpPr>
        <p:spPr>
          <a:xfrm>
            <a:off x="4214880" y="250020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497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0"/>
          <a:ext cx="9144000" cy="7230960"/>
        </p:xfrm>
        <a:graphic>
          <a:graphicData uri="http://schemas.openxmlformats.org/drawingml/2006/table">
            <a:tbl>
              <a:tblPr/>
              <a:tblGrid>
                <a:gridCol w="1017720"/>
                <a:gridCol w="1014120"/>
                <a:gridCol w="1016280"/>
                <a:gridCol w="1017360"/>
                <a:gridCol w="1014480"/>
                <a:gridCol w="1015920"/>
                <a:gridCol w="1017720"/>
                <a:gridCol w="1014480"/>
                <a:gridCol w="1015920"/>
              </a:tblGrid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Б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Е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Л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74"/>
          <p:cNvSpPr/>
          <p:nvPr/>
        </p:nvSpPr>
        <p:spPr>
          <a:xfrm>
            <a:off x="307188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5"/>
          <p:cNvSpPr/>
          <p:nvPr/>
        </p:nvSpPr>
        <p:spPr>
          <a:xfrm>
            <a:off x="514368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6"/>
          <p:cNvSpPr/>
          <p:nvPr/>
        </p:nvSpPr>
        <p:spPr>
          <a:xfrm>
            <a:off x="714384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7"/>
          <p:cNvSpPr/>
          <p:nvPr/>
        </p:nvSpPr>
        <p:spPr>
          <a:xfrm>
            <a:off x="4143240" y="2286000"/>
            <a:ext cx="100836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8"/>
          <p:cNvSpPr/>
          <p:nvPr/>
        </p:nvSpPr>
        <p:spPr>
          <a:xfrm>
            <a:off x="8244000" y="5877000"/>
            <a:ext cx="720720" cy="792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92000"/>
              <a:gd name="textAreaBottom" fmla="*/ 745560 h 792000"/>
            </a:gdLst>
            <a:ahLst/>
            <a:rect l="textAreaLeft" t="textAreaTop" r="textAreaRight" b="textAreaBottom"/>
            <a:pathLst>
              <a:path w="21600" h="23735">
                <a:moveTo>
                  <a:pt x="0" y="0"/>
                </a:moveTo>
                <a:lnTo>
                  <a:pt x="21600" y="0"/>
                </a:lnTo>
                <a:lnTo>
                  <a:pt x="21600" y="23735"/>
                </a:lnTo>
                <a:lnTo>
                  <a:pt x="0" y="23735"/>
                </a:lnTo>
                <a:close/>
              </a:path>
              <a:path fill="lightenLess" w="21600" h="23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5">
                <a:moveTo>
                  <a:pt x="21600" y="0"/>
                </a:moveTo>
                <a:lnTo>
                  <a:pt x="21600" y="23735"/>
                </a:lnTo>
                <a:lnTo>
                  <a:pt x="20200" y="22335"/>
                </a:lnTo>
                <a:lnTo>
                  <a:pt x="20200" y="1400"/>
                </a:lnTo>
                <a:close/>
              </a:path>
              <a:path fill="darkenLess" w="21600" h="23735">
                <a:moveTo>
                  <a:pt x="21600" y="23735"/>
                </a:moveTo>
                <a:lnTo>
                  <a:pt x="0" y="23735"/>
                </a:lnTo>
                <a:lnTo>
                  <a:pt x="1400" y="22335"/>
                </a:lnTo>
                <a:lnTo>
                  <a:pt x="20200" y="22335"/>
                </a:lnTo>
                <a:close/>
              </a:path>
              <a:path fill="lighten" w="21600" h="23735">
                <a:moveTo>
                  <a:pt x="0" y="23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5"/>
                </a:lnTo>
                <a:close/>
              </a:path>
              <a:path fill="darken" w="21600" h="23735">
                <a:moveTo>
                  <a:pt x="10800" y="4905"/>
                </a:moveTo>
                <a:lnTo>
                  <a:pt x="13376" y="7516"/>
                </a:ln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lnTo>
                  <a:pt x="17763" y="11868"/>
                </a:lnTo>
                <a:lnTo>
                  <a:pt x="16109" y="11868"/>
                </a:lnTo>
                <a:lnTo>
                  <a:pt x="16109" y="19057"/>
                </a:lnTo>
                <a:lnTo>
                  <a:pt x="5491" y="19057"/>
                </a:lnTo>
                <a:lnTo>
                  <a:pt x="5491" y="11868"/>
                </a:lnTo>
                <a:lnTo>
                  <a:pt x="3837" y="11868"/>
                </a:lnTo>
                <a:close/>
              </a:path>
              <a:path fill="darkenLess" w="21600" h="23735">
                <a:moveTo>
                  <a:pt x="13376" y="7516"/>
                </a:move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close/>
              </a:path>
              <a:path fill="darkenLess" w="21600" h="23735">
                <a:moveTo>
                  <a:pt x="9877" y="15366"/>
                </a:moveTo>
                <a:lnTo>
                  <a:pt x="11723" y="15366"/>
                </a:lnTo>
                <a:lnTo>
                  <a:pt x="11723" y="19057"/>
                </a:lnTo>
                <a:lnTo>
                  <a:pt x="16109" y="19057"/>
                </a:lnTo>
                <a:lnTo>
                  <a:pt x="16109" y="11868"/>
                </a:lnTo>
                <a:lnTo>
                  <a:pt x="5491" y="11868"/>
                </a:lnTo>
                <a:lnTo>
                  <a:pt x="5491" y="19057"/>
                </a:lnTo>
                <a:lnTo>
                  <a:pt x="9877" y="1905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79"/>
          <p:cNvSpPr txBox="1"/>
          <p:nvPr/>
        </p:nvSpPr>
        <p:spPr>
          <a:xfrm>
            <a:off x="1403280" y="18900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торой тур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поле чудес.mp3" descr=""/>
          <p:cNvPicPr/>
          <p:nvPr/>
        </p:nvPicPr>
        <p:blipFill>
          <a:blip r:embed="rId3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6"/>
          <p:cNvSpPr/>
          <p:nvPr/>
        </p:nvSpPr>
        <p:spPr>
          <a:xfrm>
            <a:off x="614376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2497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017720"/>
                <a:gridCol w="1014120"/>
                <a:gridCol w="1016280"/>
                <a:gridCol w="1017360"/>
                <a:gridCol w="1014480"/>
                <a:gridCol w="1015920"/>
                <a:gridCol w="1017720"/>
                <a:gridCol w="1014480"/>
                <a:gridCol w="1015920"/>
              </a:tblGrid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Г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Т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Ь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74"/>
          <p:cNvSpPr/>
          <p:nvPr/>
        </p:nvSpPr>
        <p:spPr>
          <a:xfrm>
            <a:off x="107172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5"/>
          <p:cNvSpPr/>
          <p:nvPr/>
        </p:nvSpPr>
        <p:spPr>
          <a:xfrm>
            <a:off x="207180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6"/>
          <p:cNvSpPr/>
          <p:nvPr/>
        </p:nvSpPr>
        <p:spPr>
          <a:xfrm>
            <a:off x="307188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7"/>
          <p:cNvSpPr/>
          <p:nvPr/>
        </p:nvSpPr>
        <p:spPr>
          <a:xfrm>
            <a:off x="407196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8"/>
          <p:cNvSpPr/>
          <p:nvPr/>
        </p:nvSpPr>
        <p:spPr>
          <a:xfrm>
            <a:off x="8244000" y="5950080"/>
            <a:ext cx="720720" cy="792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92000"/>
              <a:gd name="textAreaBottom" fmla="*/ 745560 h 792000"/>
            </a:gdLst>
            <a:ahLst/>
            <a:rect l="textAreaLeft" t="textAreaTop" r="textAreaRight" b="textAreaBottom"/>
            <a:pathLst>
              <a:path w="21600" h="23735">
                <a:moveTo>
                  <a:pt x="0" y="0"/>
                </a:moveTo>
                <a:lnTo>
                  <a:pt x="21600" y="0"/>
                </a:lnTo>
                <a:lnTo>
                  <a:pt x="21600" y="23735"/>
                </a:lnTo>
                <a:lnTo>
                  <a:pt x="0" y="23735"/>
                </a:lnTo>
                <a:close/>
              </a:path>
              <a:path fill="lightenLess" w="21600" h="23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5">
                <a:moveTo>
                  <a:pt x="21600" y="0"/>
                </a:moveTo>
                <a:lnTo>
                  <a:pt x="21600" y="23735"/>
                </a:lnTo>
                <a:lnTo>
                  <a:pt x="20200" y="22335"/>
                </a:lnTo>
                <a:lnTo>
                  <a:pt x="20200" y="1400"/>
                </a:lnTo>
                <a:close/>
              </a:path>
              <a:path fill="darkenLess" w="21600" h="23735">
                <a:moveTo>
                  <a:pt x="21600" y="23735"/>
                </a:moveTo>
                <a:lnTo>
                  <a:pt x="0" y="23735"/>
                </a:lnTo>
                <a:lnTo>
                  <a:pt x="1400" y="22335"/>
                </a:lnTo>
                <a:lnTo>
                  <a:pt x="20200" y="22335"/>
                </a:lnTo>
                <a:close/>
              </a:path>
              <a:path fill="lighten" w="21600" h="23735">
                <a:moveTo>
                  <a:pt x="0" y="23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5"/>
                </a:lnTo>
                <a:close/>
              </a:path>
              <a:path fill="darken" w="21600" h="23735">
                <a:moveTo>
                  <a:pt x="10800" y="4905"/>
                </a:moveTo>
                <a:lnTo>
                  <a:pt x="13376" y="7516"/>
                </a:ln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lnTo>
                  <a:pt x="17763" y="11868"/>
                </a:lnTo>
                <a:lnTo>
                  <a:pt x="16109" y="11868"/>
                </a:lnTo>
                <a:lnTo>
                  <a:pt x="16109" y="19057"/>
                </a:lnTo>
                <a:lnTo>
                  <a:pt x="5491" y="19057"/>
                </a:lnTo>
                <a:lnTo>
                  <a:pt x="5491" y="11868"/>
                </a:lnTo>
                <a:lnTo>
                  <a:pt x="3837" y="11868"/>
                </a:lnTo>
                <a:close/>
              </a:path>
              <a:path fill="darkenLess" w="21600" h="23735">
                <a:moveTo>
                  <a:pt x="13376" y="7516"/>
                </a:move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close/>
              </a:path>
              <a:path fill="darkenLess" w="21600" h="23735">
                <a:moveTo>
                  <a:pt x="9877" y="15366"/>
                </a:moveTo>
                <a:lnTo>
                  <a:pt x="11723" y="15366"/>
                </a:lnTo>
                <a:lnTo>
                  <a:pt x="11723" y="19057"/>
                </a:lnTo>
                <a:lnTo>
                  <a:pt x="16109" y="19057"/>
                </a:lnTo>
                <a:lnTo>
                  <a:pt x="16109" y="11868"/>
                </a:lnTo>
                <a:lnTo>
                  <a:pt x="5491" y="11868"/>
                </a:lnTo>
                <a:lnTo>
                  <a:pt x="5491" y="19057"/>
                </a:lnTo>
                <a:lnTo>
                  <a:pt x="9877" y="1905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9"/>
          <p:cNvSpPr/>
          <p:nvPr/>
        </p:nvSpPr>
        <p:spPr>
          <a:xfrm>
            <a:off x="507204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82"/>
          <p:cNvSpPr txBox="1"/>
          <p:nvPr/>
        </p:nvSpPr>
        <p:spPr>
          <a:xfrm>
            <a:off x="1403280" y="18900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етий тур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поле чудес.mp3" descr=""/>
          <p:cNvPicPr/>
          <p:nvPr/>
        </p:nvPicPr>
        <p:blipFill>
          <a:blip r:embed="rId3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24975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0"/>
          <a:ext cx="9144000" cy="7230960"/>
        </p:xfrm>
        <a:graphic>
          <a:graphicData uri="http://schemas.openxmlformats.org/drawingml/2006/table">
            <a:tbl>
              <a:tblPr/>
              <a:tblGrid>
                <a:gridCol w="1017720"/>
                <a:gridCol w="1014120"/>
                <a:gridCol w="1016280"/>
                <a:gridCol w="1017360"/>
                <a:gridCol w="1014480"/>
                <a:gridCol w="1015920"/>
                <a:gridCol w="1017720"/>
                <a:gridCol w="1014480"/>
                <a:gridCol w="1015920"/>
              </a:tblGrid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М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Т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Е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Е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Rectangle 74"/>
          <p:cNvSpPr/>
          <p:nvPr/>
        </p:nvSpPr>
        <p:spPr>
          <a:xfrm>
            <a:off x="4071960" y="235728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5"/>
          <p:cNvSpPr/>
          <p:nvPr/>
        </p:nvSpPr>
        <p:spPr>
          <a:xfrm>
            <a:off x="2071800" y="235728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6"/>
          <p:cNvSpPr/>
          <p:nvPr/>
        </p:nvSpPr>
        <p:spPr>
          <a:xfrm>
            <a:off x="3071880" y="235728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7"/>
          <p:cNvSpPr/>
          <p:nvPr/>
        </p:nvSpPr>
        <p:spPr>
          <a:xfrm>
            <a:off x="7000920" y="235728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8"/>
          <p:cNvSpPr/>
          <p:nvPr/>
        </p:nvSpPr>
        <p:spPr>
          <a:xfrm>
            <a:off x="8244000" y="5950080"/>
            <a:ext cx="720720" cy="792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92000"/>
              <a:gd name="textAreaBottom" fmla="*/ 745560 h 792000"/>
            </a:gdLst>
            <a:ahLst/>
            <a:rect l="textAreaLeft" t="textAreaTop" r="textAreaRight" b="textAreaBottom"/>
            <a:pathLst>
              <a:path w="21600" h="23735">
                <a:moveTo>
                  <a:pt x="0" y="0"/>
                </a:moveTo>
                <a:lnTo>
                  <a:pt x="21600" y="0"/>
                </a:lnTo>
                <a:lnTo>
                  <a:pt x="21600" y="23735"/>
                </a:lnTo>
                <a:lnTo>
                  <a:pt x="0" y="23735"/>
                </a:lnTo>
                <a:close/>
              </a:path>
              <a:path fill="lightenLess" w="21600" h="23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5">
                <a:moveTo>
                  <a:pt x="21600" y="0"/>
                </a:moveTo>
                <a:lnTo>
                  <a:pt x="21600" y="23735"/>
                </a:lnTo>
                <a:lnTo>
                  <a:pt x="20200" y="22335"/>
                </a:lnTo>
                <a:lnTo>
                  <a:pt x="20200" y="1400"/>
                </a:lnTo>
                <a:close/>
              </a:path>
              <a:path fill="darkenLess" w="21600" h="23735">
                <a:moveTo>
                  <a:pt x="21600" y="23735"/>
                </a:moveTo>
                <a:lnTo>
                  <a:pt x="0" y="23735"/>
                </a:lnTo>
                <a:lnTo>
                  <a:pt x="1400" y="22335"/>
                </a:lnTo>
                <a:lnTo>
                  <a:pt x="20200" y="22335"/>
                </a:lnTo>
                <a:close/>
              </a:path>
              <a:path fill="lighten" w="21600" h="23735">
                <a:moveTo>
                  <a:pt x="0" y="23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5"/>
                </a:lnTo>
                <a:close/>
              </a:path>
              <a:path fill="darken" w="21600" h="23735">
                <a:moveTo>
                  <a:pt x="10800" y="4905"/>
                </a:moveTo>
                <a:lnTo>
                  <a:pt x="13376" y="7516"/>
                </a:ln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lnTo>
                  <a:pt x="17763" y="11868"/>
                </a:lnTo>
                <a:lnTo>
                  <a:pt x="16109" y="11868"/>
                </a:lnTo>
                <a:lnTo>
                  <a:pt x="16109" y="19057"/>
                </a:lnTo>
                <a:lnTo>
                  <a:pt x="5491" y="19057"/>
                </a:lnTo>
                <a:lnTo>
                  <a:pt x="5491" y="11868"/>
                </a:lnTo>
                <a:lnTo>
                  <a:pt x="3837" y="11868"/>
                </a:lnTo>
                <a:close/>
              </a:path>
              <a:path fill="darkenLess" w="21600" h="23735">
                <a:moveTo>
                  <a:pt x="13376" y="7516"/>
                </a:move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close/>
              </a:path>
              <a:path fill="darkenLess" w="21600" h="23735">
                <a:moveTo>
                  <a:pt x="9877" y="15366"/>
                </a:moveTo>
                <a:lnTo>
                  <a:pt x="11723" y="15366"/>
                </a:lnTo>
                <a:lnTo>
                  <a:pt x="11723" y="19057"/>
                </a:lnTo>
                <a:lnTo>
                  <a:pt x="16109" y="19057"/>
                </a:lnTo>
                <a:lnTo>
                  <a:pt x="16109" y="11868"/>
                </a:lnTo>
                <a:lnTo>
                  <a:pt x="5491" y="11868"/>
                </a:lnTo>
                <a:lnTo>
                  <a:pt x="5491" y="19057"/>
                </a:lnTo>
                <a:lnTo>
                  <a:pt x="9877" y="1905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80"/>
          <p:cNvSpPr txBox="1"/>
          <p:nvPr/>
        </p:nvSpPr>
        <p:spPr>
          <a:xfrm>
            <a:off x="1332000" y="18900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нал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поле чудес.mp3" descr=""/>
          <p:cNvPicPr/>
          <p:nvPr/>
        </p:nvPicPr>
        <p:blipFill>
          <a:blip r:embed="rId3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5"/>
          <p:cNvSpPr/>
          <p:nvPr/>
        </p:nvSpPr>
        <p:spPr>
          <a:xfrm>
            <a:off x="1071720" y="235728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9"/>
          <p:cNvSpPr/>
          <p:nvPr/>
        </p:nvSpPr>
        <p:spPr>
          <a:xfrm>
            <a:off x="8136000" y="235728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7"/>
          <p:cNvSpPr/>
          <p:nvPr/>
        </p:nvSpPr>
        <p:spPr>
          <a:xfrm>
            <a:off x="6000840" y="235728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7"/>
          <p:cNvSpPr/>
          <p:nvPr/>
        </p:nvSpPr>
        <p:spPr>
          <a:xfrm>
            <a:off x="5000760" y="235728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24975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0"/>
          <a:ext cx="9144000" cy="8327880"/>
        </p:xfrm>
        <a:graphic>
          <a:graphicData uri="http://schemas.openxmlformats.org/drawingml/2006/table">
            <a:tbl>
              <a:tblPr/>
              <a:tblGrid>
                <a:gridCol w="1017720"/>
                <a:gridCol w="1014120"/>
                <a:gridCol w="1016280"/>
                <a:gridCol w="1017360"/>
                <a:gridCol w="1014480"/>
                <a:gridCol w="1015920"/>
                <a:gridCol w="1017720"/>
                <a:gridCol w="1014480"/>
                <a:gridCol w="1015920"/>
              </a:tblGrid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Л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74"/>
          <p:cNvSpPr/>
          <p:nvPr/>
        </p:nvSpPr>
        <p:spPr>
          <a:xfrm>
            <a:off x="407196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5"/>
          <p:cNvSpPr/>
          <p:nvPr/>
        </p:nvSpPr>
        <p:spPr>
          <a:xfrm>
            <a:off x="207180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6"/>
          <p:cNvSpPr/>
          <p:nvPr/>
        </p:nvSpPr>
        <p:spPr>
          <a:xfrm>
            <a:off x="307188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7"/>
          <p:cNvSpPr/>
          <p:nvPr/>
        </p:nvSpPr>
        <p:spPr>
          <a:xfrm>
            <a:off x="507204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9"/>
          <p:cNvSpPr/>
          <p:nvPr/>
        </p:nvSpPr>
        <p:spPr>
          <a:xfrm>
            <a:off x="607212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80"/>
          <p:cNvSpPr txBox="1"/>
          <p:nvPr/>
        </p:nvSpPr>
        <p:spPr>
          <a:xfrm>
            <a:off x="971640" y="189000"/>
            <a:ext cx="7129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пер игр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поле чудес.mp3" descr=""/>
          <p:cNvPicPr/>
          <p:nvPr/>
        </p:nvPicPr>
        <p:blipFill>
          <a:blip r:embed="rId3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5"/>
          <p:cNvSpPr/>
          <p:nvPr/>
        </p:nvSpPr>
        <p:spPr>
          <a:xfrm>
            <a:off x="100008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9"/>
          <p:cNvSpPr/>
          <p:nvPr/>
        </p:nvSpPr>
        <p:spPr>
          <a:xfrm>
            <a:off x="714384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24975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небо1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00" name="WordArt 5"/>
          <p:cNvSpPr txBox="1"/>
          <p:nvPr/>
        </p:nvSpPr>
        <p:spPr>
          <a:xfrm rot="20253000">
            <a:off x="539640" y="2205000"/>
            <a:ext cx="8266320" cy="21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игру!</a:t>
            </a:r>
            <a:endParaRPr b="0" lang="en-US" sz="1800" spc="1" strike="noStrike">
              <a:ln w="1584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3:45:27Z</dcterms:created>
  <dc:creator>Пользователь</dc:creator>
  <dc:description/>
  <dc:language>en-US</dc:language>
  <cp:lastModifiedBy>спорт</cp:lastModifiedBy>
  <dcterms:modified xsi:type="dcterms:W3CDTF">2024-11-05T07:56:13Z</dcterms:modified>
  <cp:revision>11</cp:revision>
  <dc:subject/>
  <dc:title>Слайд 1</dc:title>
</cp:coreProperties>
</file>