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BF3F-88F4-4643-902C-D952D3CC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835-01E5-4CB0-9FF8-EAA31506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6E6-FED0-4F84-A057-983BF2CE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1C1-0301-432D-8DC5-D96E1DEB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43B-EA94-4A0D-9045-E5F6F233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955-CED7-4271-B943-41432A20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0A6-A6CD-4485-B2D8-B4BB84BD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11A-3AE2-4DA6-9AB0-25D0299D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CF0-F4E3-404C-A5DA-C27B50FD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66F-2659-431F-B17C-708594AF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3AA-1DDC-4A27-A5DC-CFD64876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2F8-86FF-4DDF-B759-6F210161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239A-6871-4133-8521-3DD8A12B2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небо1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pic>
        <p:nvPicPr>
          <p:cNvPr id="42" name="поле чудес.mp3" descr=""/>
          <p:cNvPicPr/>
          <p:nvPr/>
        </p:nvPicPr>
        <p:blipFill>
          <a:blip r:embed="rId2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1403280" y="1628640"/>
            <a:ext cx="6048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16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ле</a:t>
            </a:r>
            <a:endParaRPr b="1" i="1" lang="en-US" sz="1800" spc="1" strike="noStrike">
              <a:ln w="316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16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удес</a:t>
            </a:r>
            <a:endParaRPr b="1" i="1" lang="en-US" sz="1800" spc="1" strike="noStrike">
              <a:ln w="316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97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2">
            <a:hlinkClick r:id="rId1" action="ppaction://hlinksldjump"/>
          </p:cNvPr>
          <p:cNvSpPr/>
          <p:nvPr/>
        </p:nvSpPr>
        <p:spPr>
          <a:xfrm>
            <a:off x="395280" y="260280"/>
            <a:ext cx="2736720" cy="24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 Т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>
            <a:hlinkClick r:id="rId2" action="ppaction://hlinksldjump"/>
          </p:cNvPr>
          <p:cNvSpPr/>
          <p:nvPr/>
        </p:nvSpPr>
        <p:spPr>
          <a:xfrm>
            <a:off x="2987640" y="1989000"/>
            <a:ext cx="2736720" cy="244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3 Т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395280" y="4005360"/>
            <a:ext cx="3024360" cy="25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ФИНА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3995640" y="4292640"/>
            <a:ext cx="4969080" cy="20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УПЕРИГ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1"/>
          <p:cNvSpPr/>
          <p:nvPr/>
        </p:nvSpPr>
        <p:spPr>
          <a:xfrm>
            <a:off x="5724360" y="404640"/>
            <a:ext cx="2737080" cy="244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 Т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7816680"/>
        </p:xfrm>
        <a:graphic>
          <a:graphicData uri="http://schemas.openxmlformats.org/drawingml/2006/table">
            <a:tbl>
              <a:tblPr/>
              <a:tblGrid>
                <a:gridCol w="1017720"/>
                <a:gridCol w="1014120"/>
                <a:gridCol w="1016280"/>
                <a:gridCol w="1017360"/>
                <a:gridCol w="1014480"/>
                <a:gridCol w="1015920"/>
                <a:gridCol w="1017720"/>
                <a:gridCol w="1014480"/>
                <a:gridCol w="1015920"/>
              </a:tblGrid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Ц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Ц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400"/>
          <p:cNvSpPr/>
          <p:nvPr/>
        </p:nvSpPr>
        <p:spPr>
          <a:xfrm>
            <a:off x="3143160" y="250020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02"/>
          <p:cNvSpPr/>
          <p:nvPr/>
        </p:nvSpPr>
        <p:spPr>
          <a:xfrm>
            <a:off x="2143080" y="250020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79"/>
          <p:cNvSpPr txBox="1"/>
          <p:nvPr/>
        </p:nvSpPr>
        <p:spPr>
          <a:xfrm>
            <a:off x="1476360" y="18900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ый тур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AutoShape 477"/>
          <p:cNvSpPr/>
          <p:nvPr/>
        </p:nvSpPr>
        <p:spPr>
          <a:xfrm>
            <a:off x="8423280" y="606600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10800" y="4905"/>
                </a:moveTo>
                <a:lnTo>
                  <a:pt x="13376" y="7516"/>
                </a:ln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lnTo>
                  <a:pt x="17763" y="11868"/>
                </a:lnTo>
                <a:lnTo>
                  <a:pt x="16109" y="11868"/>
                </a:lnTo>
                <a:lnTo>
                  <a:pt x="16109" y="19057"/>
                </a:lnTo>
                <a:lnTo>
                  <a:pt x="5491" y="19057"/>
                </a:lnTo>
                <a:lnTo>
                  <a:pt x="5491" y="11868"/>
                </a:lnTo>
                <a:lnTo>
                  <a:pt x="3837" y="11868"/>
                </a:lnTo>
                <a:close/>
              </a:path>
              <a:path fill="darkenLess" w="21600" h="23735">
                <a:moveTo>
                  <a:pt x="13376" y="7516"/>
                </a:move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close/>
              </a:path>
              <a:path fill="darkenLess" w="21600" h="23735">
                <a:moveTo>
                  <a:pt x="9877" y="15366"/>
                </a:moveTo>
                <a:lnTo>
                  <a:pt x="11723" y="15366"/>
                </a:lnTo>
                <a:lnTo>
                  <a:pt x="11723" y="19057"/>
                </a:lnTo>
                <a:lnTo>
                  <a:pt x="16109" y="19057"/>
                </a:lnTo>
                <a:lnTo>
                  <a:pt x="16109" y="11868"/>
                </a:lnTo>
                <a:lnTo>
                  <a:pt x="5491" y="11868"/>
                </a:lnTo>
                <a:lnTo>
                  <a:pt x="5491" y="19057"/>
                </a:lnTo>
                <a:lnTo>
                  <a:pt x="9877" y="1905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оле чудес.mp3" descr=""/>
          <p:cNvPicPr/>
          <p:nvPr/>
        </p:nvPicPr>
        <p:blipFill>
          <a:blip r:embed="rId3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02"/>
          <p:cNvSpPr/>
          <p:nvPr/>
        </p:nvSpPr>
        <p:spPr>
          <a:xfrm>
            <a:off x="1000080" y="250020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03"/>
          <p:cNvSpPr/>
          <p:nvPr/>
        </p:nvSpPr>
        <p:spPr>
          <a:xfrm>
            <a:off x="6215040" y="250020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03"/>
          <p:cNvSpPr/>
          <p:nvPr/>
        </p:nvSpPr>
        <p:spPr>
          <a:xfrm>
            <a:off x="5214960" y="250020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03"/>
          <p:cNvSpPr/>
          <p:nvPr/>
        </p:nvSpPr>
        <p:spPr>
          <a:xfrm>
            <a:off x="4214880" y="250020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497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7230960"/>
        </p:xfrm>
        <a:graphic>
          <a:graphicData uri="http://schemas.openxmlformats.org/drawingml/2006/table">
            <a:tbl>
              <a:tblPr/>
              <a:tblGrid>
                <a:gridCol w="1017720"/>
                <a:gridCol w="1014120"/>
                <a:gridCol w="1016280"/>
                <a:gridCol w="1017360"/>
                <a:gridCol w="1014480"/>
                <a:gridCol w="1015920"/>
                <a:gridCol w="1017720"/>
                <a:gridCol w="1014480"/>
                <a:gridCol w="1015920"/>
              </a:tblGrid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Б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Е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Л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74"/>
          <p:cNvSpPr/>
          <p:nvPr/>
        </p:nvSpPr>
        <p:spPr>
          <a:xfrm>
            <a:off x="307188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5"/>
          <p:cNvSpPr/>
          <p:nvPr/>
        </p:nvSpPr>
        <p:spPr>
          <a:xfrm>
            <a:off x="514368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6"/>
          <p:cNvSpPr/>
          <p:nvPr/>
        </p:nvSpPr>
        <p:spPr>
          <a:xfrm>
            <a:off x="714384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7"/>
          <p:cNvSpPr/>
          <p:nvPr/>
        </p:nvSpPr>
        <p:spPr>
          <a:xfrm>
            <a:off x="4143240" y="2286000"/>
            <a:ext cx="100836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8"/>
          <p:cNvSpPr/>
          <p:nvPr/>
        </p:nvSpPr>
        <p:spPr>
          <a:xfrm>
            <a:off x="8244000" y="587700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10800" y="4905"/>
                </a:moveTo>
                <a:lnTo>
                  <a:pt x="13376" y="7516"/>
                </a:ln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lnTo>
                  <a:pt x="17763" y="11868"/>
                </a:lnTo>
                <a:lnTo>
                  <a:pt x="16109" y="11868"/>
                </a:lnTo>
                <a:lnTo>
                  <a:pt x="16109" y="19057"/>
                </a:lnTo>
                <a:lnTo>
                  <a:pt x="5491" y="19057"/>
                </a:lnTo>
                <a:lnTo>
                  <a:pt x="5491" y="11868"/>
                </a:lnTo>
                <a:lnTo>
                  <a:pt x="3837" y="11868"/>
                </a:lnTo>
                <a:close/>
              </a:path>
              <a:path fill="darkenLess" w="21600" h="23735">
                <a:moveTo>
                  <a:pt x="13376" y="7516"/>
                </a:move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close/>
              </a:path>
              <a:path fill="darkenLess" w="21600" h="23735">
                <a:moveTo>
                  <a:pt x="9877" y="15366"/>
                </a:moveTo>
                <a:lnTo>
                  <a:pt x="11723" y="15366"/>
                </a:lnTo>
                <a:lnTo>
                  <a:pt x="11723" y="19057"/>
                </a:lnTo>
                <a:lnTo>
                  <a:pt x="16109" y="19057"/>
                </a:lnTo>
                <a:lnTo>
                  <a:pt x="16109" y="11868"/>
                </a:lnTo>
                <a:lnTo>
                  <a:pt x="5491" y="11868"/>
                </a:lnTo>
                <a:lnTo>
                  <a:pt x="5491" y="19057"/>
                </a:lnTo>
                <a:lnTo>
                  <a:pt x="9877" y="1905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79"/>
          <p:cNvSpPr txBox="1"/>
          <p:nvPr/>
        </p:nvSpPr>
        <p:spPr>
          <a:xfrm>
            <a:off x="1403280" y="18900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торой тур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поле чудес.mp3" descr=""/>
          <p:cNvPicPr/>
          <p:nvPr/>
        </p:nvPicPr>
        <p:blipFill>
          <a:blip r:embed="rId3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6"/>
          <p:cNvSpPr/>
          <p:nvPr/>
        </p:nvSpPr>
        <p:spPr>
          <a:xfrm>
            <a:off x="614376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497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017720"/>
                <a:gridCol w="1014120"/>
                <a:gridCol w="1016280"/>
                <a:gridCol w="1017360"/>
                <a:gridCol w="1014480"/>
                <a:gridCol w="1015920"/>
                <a:gridCol w="1017720"/>
                <a:gridCol w="1014480"/>
                <a:gridCol w="1015920"/>
              </a:tblGrid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Ь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74"/>
          <p:cNvSpPr/>
          <p:nvPr/>
        </p:nvSpPr>
        <p:spPr>
          <a:xfrm>
            <a:off x="107172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5"/>
          <p:cNvSpPr/>
          <p:nvPr/>
        </p:nvSpPr>
        <p:spPr>
          <a:xfrm>
            <a:off x="207180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6"/>
          <p:cNvSpPr/>
          <p:nvPr/>
        </p:nvSpPr>
        <p:spPr>
          <a:xfrm>
            <a:off x="307188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7"/>
          <p:cNvSpPr/>
          <p:nvPr/>
        </p:nvSpPr>
        <p:spPr>
          <a:xfrm>
            <a:off x="407196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8"/>
          <p:cNvSpPr/>
          <p:nvPr/>
        </p:nvSpPr>
        <p:spPr>
          <a:xfrm>
            <a:off x="8244000" y="595008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10800" y="4905"/>
                </a:moveTo>
                <a:lnTo>
                  <a:pt x="13376" y="7516"/>
                </a:ln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lnTo>
                  <a:pt x="17763" y="11868"/>
                </a:lnTo>
                <a:lnTo>
                  <a:pt x="16109" y="11868"/>
                </a:lnTo>
                <a:lnTo>
                  <a:pt x="16109" y="19057"/>
                </a:lnTo>
                <a:lnTo>
                  <a:pt x="5491" y="19057"/>
                </a:lnTo>
                <a:lnTo>
                  <a:pt x="5491" y="11868"/>
                </a:lnTo>
                <a:lnTo>
                  <a:pt x="3837" y="11868"/>
                </a:lnTo>
                <a:close/>
              </a:path>
              <a:path fill="darkenLess" w="21600" h="23735">
                <a:moveTo>
                  <a:pt x="13376" y="7516"/>
                </a:move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close/>
              </a:path>
              <a:path fill="darkenLess" w="21600" h="23735">
                <a:moveTo>
                  <a:pt x="9877" y="15366"/>
                </a:moveTo>
                <a:lnTo>
                  <a:pt x="11723" y="15366"/>
                </a:lnTo>
                <a:lnTo>
                  <a:pt x="11723" y="19057"/>
                </a:lnTo>
                <a:lnTo>
                  <a:pt x="16109" y="19057"/>
                </a:lnTo>
                <a:lnTo>
                  <a:pt x="16109" y="11868"/>
                </a:lnTo>
                <a:lnTo>
                  <a:pt x="5491" y="11868"/>
                </a:lnTo>
                <a:lnTo>
                  <a:pt x="5491" y="19057"/>
                </a:lnTo>
                <a:lnTo>
                  <a:pt x="9877" y="1905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9"/>
          <p:cNvSpPr/>
          <p:nvPr/>
        </p:nvSpPr>
        <p:spPr>
          <a:xfrm>
            <a:off x="507204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82"/>
          <p:cNvSpPr txBox="1"/>
          <p:nvPr/>
        </p:nvSpPr>
        <p:spPr>
          <a:xfrm>
            <a:off x="1403280" y="18900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етий тур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поле чудес.mp3" descr=""/>
          <p:cNvPicPr/>
          <p:nvPr/>
        </p:nvPicPr>
        <p:blipFill>
          <a:blip r:embed="rId3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2497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0"/>
          <a:ext cx="9144000" cy="7230960"/>
        </p:xfrm>
        <a:graphic>
          <a:graphicData uri="http://schemas.openxmlformats.org/drawingml/2006/table">
            <a:tbl>
              <a:tblPr/>
              <a:tblGrid>
                <a:gridCol w="1017720"/>
                <a:gridCol w="1014120"/>
                <a:gridCol w="1016280"/>
                <a:gridCol w="1017360"/>
                <a:gridCol w="1014480"/>
                <a:gridCol w="1015920"/>
                <a:gridCol w="1017720"/>
                <a:gridCol w="1014480"/>
                <a:gridCol w="1015920"/>
              </a:tblGrid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Е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Е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74"/>
          <p:cNvSpPr/>
          <p:nvPr/>
        </p:nvSpPr>
        <p:spPr>
          <a:xfrm>
            <a:off x="407196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5"/>
          <p:cNvSpPr/>
          <p:nvPr/>
        </p:nvSpPr>
        <p:spPr>
          <a:xfrm>
            <a:off x="207180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6"/>
          <p:cNvSpPr/>
          <p:nvPr/>
        </p:nvSpPr>
        <p:spPr>
          <a:xfrm>
            <a:off x="307188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7"/>
          <p:cNvSpPr/>
          <p:nvPr/>
        </p:nvSpPr>
        <p:spPr>
          <a:xfrm>
            <a:off x="700092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8"/>
          <p:cNvSpPr/>
          <p:nvPr/>
        </p:nvSpPr>
        <p:spPr>
          <a:xfrm>
            <a:off x="8244000" y="595008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10800" y="4905"/>
                </a:moveTo>
                <a:lnTo>
                  <a:pt x="13376" y="7516"/>
                </a:ln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lnTo>
                  <a:pt x="17763" y="11868"/>
                </a:lnTo>
                <a:lnTo>
                  <a:pt x="16109" y="11868"/>
                </a:lnTo>
                <a:lnTo>
                  <a:pt x="16109" y="19057"/>
                </a:lnTo>
                <a:lnTo>
                  <a:pt x="5491" y="19057"/>
                </a:lnTo>
                <a:lnTo>
                  <a:pt x="5491" y="11868"/>
                </a:lnTo>
                <a:lnTo>
                  <a:pt x="3837" y="11868"/>
                </a:lnTo>
                <a:close/>
              </a:path>
              <a:path fill="darkenLess" w="21600" h="23735">
                <a:moveTo>
                  <a:pt x="13376" y="7516"/>
                </a:move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close/>
              </a:path>
              <a:path fill="darkenLess" w="21600" h="23735">
                <a:moveTo>
                  <a:pt x="9877" y="15366"/>
                </a:moveTo>
                <a:lnTo>
                  <a:pt x="11723" y="15366"/>
                </a:lnTo>
                <a:lnTo>
                  <a:pt x="11723" y="19057"/>
                </a:lnTo>
                <a:lnTo>
                  <a:pt x="16109" y="19057"/>
                </a:lnTo>
                <a:lnTo>
                  <a:pt x="16109" y="11868"/>
                </a:lnTo>
                <a:lnTo>
                  <a:pt x="5491" y="11868"/>
                </a:lnTo>
                <a:lnTo>
                  <a:pt x="5491" y="19057"/>
                </a:lnTo>
                <a:lnTo>
                  <a:pt x="9877" y="1905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80"/>
          <p:cNvSpPr txBox="1"/>
          <p:nvPr/>
        </p:nvSpPr>
        <p:spPr>
          <a:xfrm>
            <a:off x="1332000" y="18900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на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поле чудес.mp3" descr=""/>
          <p:cNvPicPr/>
          <p:nvPr/>
        </p:nvPicPr>
        <p:blipFill>
          <a:blip r:embed="rId3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5"/>
          <p:cNvSpPr/>
          <p:nvPr/>
        </p:nvSpPr>
        <p:spPr>
          <a:xfrm>
            <a:off x="107172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9"/>
          <p:cNvSpPr/>
          <p:nvPr/>
        </p:nvSpPr>
        <p:spPr>
          <a:xfrm>
            <a:off x="813600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7"/>
          <p:cNvSpPr/>
          <p:nvPr/>
        </p:nvSpPr>
        <p:spPr>
          <a:xfrm>
            <a:off x="600084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7"/>
          <p:cNvSpPr/>
          <p:nvPr/>
        </p:nvSpPr>
        <p:spPr>
          <a:xfrm>
            <a:off x="5000760" y="2357280"/>
            <a:ext cx="100800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24975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0"/>
          <a:ext cx="9144000" cy="8327880"/>
        </p:xfrm>
        <a:graphic>
          <a:graphicData uri="http://schemas.openxmlformats.org/drawingml/2006/table">
            <a:tbl>
              <a:tblPr/>
              <a:tblGrid>
                <a:gridCol w="1017720"/>
                <a:gridCol w="1014120"/>
                <a:gridCol w="1016280"/>
                <a:gridCol w="1017360"/>
                <a:gridCol w="1014480"/>
                <a:gridCol w="1015920"/>
                <a:gridCol w="1017720"/>
                <a:gridCol w="1014480"/>
                <a:gridCol w="101592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Л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74"/>
          <p:cNvSpPr/>
          <p:nvPr/>
        </p:nvSpPr>
        <p:spPr>
          <a:xfrm>
            <a:off x="407196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5"/>
          <p:cNvSpPr/>
          <p:nvPr/>
        </p:nvSpPr>
        <p:spPr>
          <a:xfrm>
            <a:off x="207180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6"/>
          <p:cNvSpPr/>
          <p:nvPr/>
        </p:nvSpPr>
        <p:spPr>
          <a:xfrm>
            <a:off x="307188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7"/>
          <p:cNvSpPr/>
          <p:nvPr/>
        </p:nvSpPr>
        <p:spPr>
          <a:xfrm>
            <a:off x="507204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9"/>
          <p:cNvSpPr/>
          <p:nvPr/>
        </p:nvSpPr>
        <p:spPr>
          <a:xfrm>
            <a:off x="607212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80"/>
          <p:cNvSpPr txBox="1"/>
          <p:nvPr/>
        </p:nvSpPr>
        <p:spPr>
          <a:xfrm>
            <a:off x="971640" y="189000"/>
            <a:ext cx="712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пер игр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поле чудес.mp3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5"/>
          <p:cNvSpPr/>
          <p:nvPr/>
        </p:nvSpPr>
        <p:spPr>
          <a:xfrm>
            <a:off x="100008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9"/>
          <p:cNvSpPr/>
          <p:nvPr/>
        </p:nvSpPr>
        <p:spPr>
          <a:xfrm>
            <a:off x="7143840" y="2286000"/>
            <a:ext cx="1008000" cy="115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2497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небо1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 rot="20253000">
            <a:off x="539640" y="2205000"/>
            <a:ext cx="8266320" cy="21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игру!</a:t>
            </a:r>
            <a:endParaRPr b="0" lang="en-US" sz="1800" spc="1" strike="noStrike">
              <a:ln w="1584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3:45:27Z</dcterms:created>
  <dc:creator>Пользователь</dc:creator>
  <dc:description/>
  <dc:language>en-US</dc:language>
  <cp:lastModifiedBy>спорт</cp:lastModifiedBy>
  <dcterms:modified xsi:type="dcterms:W3CDTF">2024-11-05T07:56:13Z</dcterms:modified>
  <cp:revision>11</cp:revision>
  <dc:subject/>
  <dc:title>Слайд 1</dc:title>
</cp:coreProperties>
</file>